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media/image5.png" ContentType="image/png"/>
  <Override PartName="/ppt/media/image2.png" ContentType="image/png"/>
  <Override PartName="/ppt/media/image3.tif" ContentType="image/tiff"/>
  <Override PartName="/ppt/media/image4.tif" ContentType="image/tiff"/>
  <Override PartName="/ppt/media/image6.tif" ContentType="image/tiff"/>
  <Override PartName="/ppt/media/image7.tif" ContentType="image/tif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CE4-5FDC-4565-AB75-8B0E3C8D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001-CADB-4D70-99CD-16F0F888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091-905D-4413-9E29-506AA4FB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C6A-06C5-42E0-BF66-43DBFF5C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526-D4D9-4540-9E3B-7742512E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5A4-E4E8-45C5-9172-151E640B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DF4-A504-4691-B3D8-D50B213E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816-CFE8-471B-B635-490B1F0D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639-34B9-4DAC-95AC-16D94A1E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01F-A115-4BA9-B1B1-09C2EF01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66C-E19D-4F8B-A796-848A1499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EA3-291F-43B3-9875-F62AFAF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lic para editar título</a:t>
            </a: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_tradn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95C981-7BFD-47F3-962A-DFCDC4C6438D}" type="slidenum">
              <a:rPr b="0" lang="es-ES_tradn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tif"/><Relationship Id="rId2" Type="http://schemas.openxmlformats.org/officeDocument/2006/relationships/image" Target="../media/image4.t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v.e-taxonomy.eu/trac/wiki/MapRestServiceExamples" TargetMode="External"/><Relationship Id="rId3" Type="http://schemas.openxmlformats.org/officeDocument/2006/relationships/hyperlink" Target="http://dev.e-taxonomy.eu/trac/wiki/MapRestServiceApi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v.e-taxonomy.eu/dataportal/palmae/" TargetMode="External"/><Relationship Id="rId2" Type="http://schemas.openxmlformats.org/officeDocument/2006/relationships/image" Target="../media/image6.t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hyperlink" Target="http://atbi.eu/mercantour-marittime/" TargetMode="External"/><Relationship Id="rId3" Type="http://schemas.openxmlformats.org/officeDocument/2006/relationships/hyperlink" Target="http://www.atbi.eu/gemer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ev.e-taxonomy.eu/trac/wiki/MapRestServiceExamples" TargetMode="External"/><Relationship Id="rId2" Type="http://schemas.openxmlformats.org/officeDocument/2006/relationships/hyperlink" Target="http://dev.e-taxonomy.eu/dataportal/palmae/" TargetMode="External"/><Relationship Id="rId3" Type="http://schemas.openxmlformats.org/officeDocument/2006/relationships/hyperlink" Target="http://atbi.eu/mercantour-marittime/" TargetMode="External"/><Relationship Id="rId4" Type="http://schemas.openxmlformats.org/officeDocument/2006/relationships/hyperlink" Target="http://edit.csic.es/geo/mapviewer/edit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cador de contenido 4" descr="EDIT_logo.tiff"/>
          <p:cNvPicPr/>
          <p:nvPr/>
        </p:nvPicPr>
        <p:blipFill>
          <a:blip r:embed="rId1"/>
          <a:stretch/>
        </p:blipFill>
        <p:spPr>
          <a:xfrm>
            <a:off x="7696080" y="249120"/>
            <a:ext cx="1193400" cy="1168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6668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2000"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DIT Geospatial Components</a:t>
            </a:r>
            <a:br>
              <a:rPr sz="4400"/>
            </a:br>
            <a:br>
              <a:rPr sz="4400"/>
            </a:br>
            <a:r>
              <a:rPr b="0" lang="es-ES_tradnl" sz="2660" spc="-1" strike="noStrike">
                <a:solidFill>
                  <a:srgbClr val="000000"/>
                </a:solidFill>
                <a:latin typeface="Calibri"/>
              </a:rPr>
              <a:t>Pere Roca Ristol</a:t>
            </a:r>
            <a:br>
              <a:rPr sz="2660"/>
            </a:br>
            <a:r>
              <a:rPr b="0" lang="es-ES_tradnl" sz="2660" spc="-1" strike="noStrike">
                <a:solidFill>
                  <a:srgbClr val="000000"/>
                </a:solidFill>
                <a:latin typeface="Calibri"/>
              </a:rPr>
              <a:t>Museo Nacional Ciencias Naturales (CSIC)</a:t>
            </a:r>
            <a:br>
              <a:rPr sz="2660"/>
            </a:br>
            <a:r>
              <a:rPr b="0" lang="es-ES_tradnl" sz="2660" spc="-1" strike="noStrike">
                <a:solidFill>
                  <a:srgbClr val="000000"/>
                </a:solidFill>
                <a:latin typeface="Calibri"/>
              </a:rPr>
              <a:t>Madrid, Spain</a:t>
            </a:r>
            <a:br>
              <a:rPr sz="4400"/>
            </a:br>
            <a:endParaRPr b="0" lang="es-ES_tradnl" sz="26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adroTexto 5"/>
          <p:cNvSpPr/>
          <p:nvPr/>
        </p:nvSpPr>
        <p:spPr>
          <a:xfrm>
            <a:off x="3657600" y="4876920"/>
            <a:ext cx="29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eroc79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uadroTexto 6"/>
          <p:cNvSpPr/>
          <p:nvPr/>
        </p:nvSpPr>
        <p:spPr>
          <a:xfrm>
            <a:off x="1905120" y="5562720"/>
            <a:ext cx="594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xonomic Database Working Group (TDWG) 2009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DIT Geospatial components</a:t>
            </a: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Visualization of georeferenced information in form of maps can report important benefits on daily taxonomist work.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DIT Geographic tools makes possible: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as taxonomist, visualize your own georeferenced point data (</a:t>
            </a:r>
            <a:r>
              <a:rPr b="0" i="1" lang="es-ES_tradnl" sz="2200" spc="-1" strike="noStrike">
                <a:solidFill>
                  <a:srgbClr val="000000"/>
                </a:solidFill>
                <a:latin typeface="Calibri"/>
              </a:rPr>
              <a:t>EDIT MapViewer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as web-developer, get distribution maps of data stored in your database (</a:t>
            </a:r>
            <a:r>
              <a:rPr b="0" i="1" lang="es-ES_tradnl" sz="2200" spc="-1" strike="noStrike">
                <a:solidFill>
                  <a:srgbClr val="000000"/>
                </a:solidFill>
                <a:latin typeface="Calibri"/>
              </a:rPr>
              <a:t>EDIT mapRest servic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rcador de contenido 3" descr="core_tools.png"/>
          <p:cNvPicPr/>
          <p:nvPr/>
        </p:nvPicPr>
        <p:blipFill>
          <a:blip r:embed="rId1"/>
          <a:stretch/>
        </p:blipFill>
        <p:spPr>
          <a:xfrm>
            <a:off x="1362240" y="1719360"/>
            <a:ext cx="6418800" cy="4525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DIT Geospatial components</a:t>
            </a: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uadroTexto 50"/>
          <p:cNvSpPr/>
          <p:nvPr/>
        </p:nvSpPr>
        <p:spPr>
          <a:xfrm>
            <a:off x="-438120" y="1298520"/>
            <a:ext cx="3065040" cy="29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ff"/>
                </a:solidFill>
                <a:latin typeface="Calibri"/>
              </a:rPr>
              <a:t>EDIT map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Texto 50"/>
          <p:cNvSpPr/>
          <p:nvPr/>
        </p:nvSpPr>
        <p:spPr>
          <a:xfrm>
            <a:off x="6477120" y="1417680"/>
            <a:ext cx="3065040" cy="29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ff"/>
                </a:solidFill>
                <a:latin typeface="Calibri"/>
              </a:rPr>
              <a:t>MapRes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2113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n 3" descr="csv.tiff"/>
          <p:cNvPicPr/>
          <p:nvPr/>
        </p:nvPicPr>
        <p:blipFill>
          <a:blip r:embed="rId1"/>
          <a:stretch/>
        </p:blipFill>
        <p:spPr>
          <a:xfrm>
            <a:off x="380880" y="2175120"/>
            <a:ext cx="2057040" cy="1445400"/>
          </a:xfrm>
          <a:prstGeom prst="rect">
            <a:avLst/>
          </a:prstGeom>
          <a:ln w="0">
            <a:noFill/>
          </a:ln>
        </p:spPr>
      </p:pic>
      <p:sp>
        <p:nvSpPr>
          <p:cNvPr id="53" name="CuadroTexto 4"/>
          <p:cNvSpPr/>
          <p:nvPr/>
        </p:nvSpPr>
        <p:spPr>
          <a:xfrm>
            <a:off x="228600" y="1686960"/>
            <a:ext cx="241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Well-formatted CSV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ángulo 5"/>
          <p:cNvSpPr/>
          <p:nvPr/>
        </p:nvSpPr>
        <p:spPr>
          <a:xfrm>
            <a:off x="380880" y="2068200"/>
            <a:ext cx="2057040" cy="155232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_tradnl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CuadroTexto 6"/>
          <p:cNvSpPr/>
          <p:nvPr/>
        </p:nvSpPr>
        <p:spPr>
          <a:xfrm>
            <a:off x="380880" y="3637440"/>
            <a:ext cx="2413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Taxonomist georeferenced data, coordinates in latitude/longitude and decimal 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ector recto de flecha 7"/>
          <p:cNvCxnSpPr>
            <a:stCxn id="54" idx="3"/>
          </p:cNvCxnSpPr>
          <p:nvPr/>
        </p:nvCxnSpPr>
        <p:spPr>
          <a:xfrm>
            <a:off x="2438280" y="2844360"/>
            <a:ext cx="1067040" cy="18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57" name="Rectángulo redondeado 8"/>
          <p:cNvSpPr/>
          <p:nvPr/>
        </p:nvSpPr>
        <p:spPr>
          <a:xfrm>
            <a:off x="3733920" y="1648080"/>
            <a:ext cx="4800240" cy="239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_tradnl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8" name="Conector recto de flecha 9"/>
          <p:cNvCxnSpPr/>
          <p:nvPr/>
        </p:nvCxnSpPr>
        <p:spPr>
          <a:xfrm>
            <a:off x="6057720" y="4038480"/>
            <a:ext cx="360" cy="75744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59" name="CuadroTexto 10"/>
          <p:cNvSpPr/>
          <p:nvPr/>
        </p:nvSpPr>
        <p:spPr>
          <a:xfrm>
            <a:off x="5181480" y="4795920"/>
            <a:ext cx="335232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Basic featu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Map composition (add/remove WMS layers) and navigation (zoom in/out, pan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Data symboliz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Query you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Legend, scalebar 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Printing in different resolutions (480dp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GBIF density data brow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n 11" descr="plot.tiff"/>
          <p:cNvPicPr/>
          <p:nvPr/>
        </p:nvPicPr>
        <p:blipFill>
          <a:blip r:embed="rId2"/>
          <a:stretch/>
        </p:blipFill>
        <p:spPr>
          <a:xfrm>
            <a:off x="4086360" y="1752480"/>
            <a:ext cx="4142880" cy="2136960"/>
          </a:xfrm>
          <a:prstGeom prst="rect">
            <a:avLst/>
          </a:prstGeom>
          <a:ln w="0">
            <a:noFill/>
          </a:ln>
        </p:spPr>
      </p:pic>
      <p:cxnSp>
        <p:nvCxnSpPr>
          <p:cNvPr id="61" name="Conector recto de flecha 12"/>
          <p:cNvCxnSpPr/>
          <p:nvPr/>
        </p:nvCxnSpPr>
        <p:spPr>
          <a:xfrm flipH="1">
            <a:off x="2057400" y="3889800"/>
            <a:ext cx="3124440" cy="702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62" name="CuadroTexto 13"/>
          <p:cNvSpPr/>
          <p:nvPr/>
        </p:nvSpPr>
        <p:spPr>
          <a:xfrm>
            <a:off x="457200" y="4610880"/>
            <a:ext cx="411444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More complex oper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create and symbolize your own polyg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GeoSpatial analy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1) Number of records per poly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2) Number of genera per poly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3) taxa/genera ratio per poly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DIT Geospatial Components</a:t>
            </a: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uadroTexto 19"/>
          <p:cNvSpPr/>
          <p:nvPr/>
        </p:nvSpPr>
        <p:spPr>
          <a:xfrm>
            <a:off x="457200" y="1143000"/>
            <a:ext cx="25142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2200" spc="-1" strike="noStrike">
                <a:solidFill>
                  <a:srgbClr val="1f497d"/>
                </a:solidFill>
                <a:latin typeface="Calibri"/>
              </a:rPr>
              <a:t>EDIT MapVie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400" spc="-1" strike="noStrike">
                <a:solidFill>
                  <a:srgbClr val="1f497d"/>
                </a:solidFill>
                <a:latin typeface="Calibri"/>
              </a:rPr>
              <a:t>EDIT MapRest Service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you construct the URL and we provide you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distribution map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with the specified features symbolized at your own taste. 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DIT Geospatial Components</a:t>
            </a: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n 4" descr="tdwg_url"/>
          <p:cNvPicPr/>
          <p:nvPr/>
        </p:nvPicPr>
        <p:blipFill>
          <a:blip r:embed="rId1"/>
          <a:stretch/>
        </p:blipFill>
        <p:spPr>
          <a:xfrm>
            <a:off x="457200" y="1981080"/>
            <a:ext cx="6700320" cy="30607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68" name="CuadroTexto 5"/>
          <p:cNvSpPr/>
          <p:nvPr/>
        </p:nvSpPr>
        <p:spPr>
          <a:xfrm>
            <a:off x="457200" y="5112720"/>
            <a:ext cx="838152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DWG level 3 and 4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with the specified codes and symbology are plotte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dwg4:c:MXEDU|b:MXETA||tdwg3:a:MXC,CUB|b:MXE,MXG|c:MXS,M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ymbology definition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(styles a,b,c,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:329d2a,483eef,2,2_2|b:ab8dc9F,da1029,2,5_7|c:d2e347|d:f7555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lease check the examples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ev.e-taxonomy.eu/trac/wiki/MapRestServiceExamples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) and the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PI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ES_tradn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dev.e-taxonomy.eu/trac/wiki/MapRestServiceApi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) for more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adroTexto 6"/>
          <p:cNvSpPr/>
          <p:nvPr/>
        </p:nvSpPr>
        <p:spPr>
          <a:xfrm>
            <a:off x="6361560" y="2345040"/>
            <a:ext cx="2782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f desired, you can get, instead of an image, a file that can be used by a webmapping application (like OpenLayers)</a:t>
            </a:r>
            <a:endParaRPr b="0" lang="es-ES_tradnl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[{"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bbox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":"-46.3,-34.82,87.506,47.09",</a:t>
            </a:r>
            <a:endParaRPr b="0" lang="es-ES_tradnl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legend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":"http://edit.csic.es/v1/sld/a93bbc32e48351a0693533bd29e65742.sld",</a:t>
            </a:r>
            <a:endParaRPr b="0" lang="es-ES_tradnl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layers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":[{"tdwg": "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dwg3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","session": "","sld": "tdwg3_a93bbc32e48351a0693533bd29e65742.sld"},{"tdwg": "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dwg1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","session": "","sld": "tdwg1_a93bbc32e48351a0693533bd29e65742.sld"}]}]</a:t>
            </a:r>
            <a:endParaRPr b="0" lang="es-ES_tradnl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.g: PalmWeb site (</a:t>
            </a:r>
            <a:r>
              <a:rPr b="0" lang="es-ES_tradn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ev.e-taxonomy.eu/dataportal/palmae/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s-ES_tradnl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DIT Geospatial Components</a:t>
            </a: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n 4" descr="palmweb.tiff"/>
          <p:cNvPicPr/>
          <p:nvPr/>
        </p:nvPicPr>
        <p:blipFill>
          <a:blip r:embed="rId2"/>
          <a:stretch/>
        </p:blipFill>
        <p:spPr>
          <a:xfrm>
            <a:off x="1828800" y="3505320"/>
            <a:ext cx="5531760" cy="3047760"/>
          </a:xfrm>
          <a:prstGeom prst="rect">
            <a:avLst/>
          </a:prstGeom>
          <a:ln w="127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Marcador de contenido 4" descr="atbi.tiff"/>
          <p:cNvPicPr/>
          <p:nvPr/>
        </p:nvPicPr>
        <p:blipFill>
          <a:blip r:embed="rId1"/>
          <a:stretch/>
        </p:blipFill>
        <p:spPr>
          <a:xfrm>
            <a:off x="990720" y="2514600"/>
            <a:ext cx="5360040" cy="4026960"/>
          </a:xfrm>
          <a:prstGeom prst="rect">
            <a:avLst/>
          </a:prstGeom>
          <a:ln w="12700">
            <a:solidFill>
              <a:srgbClr val="000000"/>
            </a:solidFill>
            <a:round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DIT Geospatial Components</a:t>
            </a: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uadroTexto 5"/>
          <p:cNvSpPr/>
          <p:nvPr/>
        </p:nvSpPr>
        <p:spPr>
          <a:xfrm>
            <a:off x="990720" y="1143000"/>
            <a:ext cx="7695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DIT MapServices can also plot your point coordinates symbolized as you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od=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:44.19195,7.44663|44.1946,7.49385|44.19499,7.49437|44.06877,7.51162&amp;os=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:c/8B0000/10/Cybaeus%20vign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Texto 6"/>
          <p:cNvSpPr/>
          <p:nvPr/>
        </p:nvSpPr>
        <p:spPr>
          <a:xfrm>
            <a:off x="6351120" y="2819520"/>
            <a:ext cx="256392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lpi-Marittime ATBI site (</a:t>
            </a:r>
            <a:r>
              <a:rPr b="0" lang="es-ES_tradn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tbi.eu/mercantour-marittime/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) and Gemer ATBI site (</a:t>
            </a:r>
            <a:r>
              <a:rPr b="0" lang="es-ES_tradn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tbi.eu/gemer/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) are currently using thes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et’s see the tools in action!</a:t>
            </a: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s-ES_tradnl" sz="2600" spc="-1" strike="noStrike">
                <a:solidFill>
                  <a:srgbClr val="1f497d"/>
                </a:solidFill>
                <a:latin typeface="Calibri"/>
              </a:rPr>
              <a:t>EDIT mapRest service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ev.e-taxonomy.eu/trac/wiki/MapRestServiceExamples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2)EDIT PalmWeb site: </a:t>
            </a: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ev.e-taxonomy.eu/dataportal/palmae/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3)Alpi-Marittime ATBI site: </a:t>
            </a: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atbi.eu/mercantour-marittime/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s-ES_tradnl" sz="2600" spc="-1" strike="noStrike">
                <a:solidFill>
                  <a:srgbClr val="1f497d"/>
                </a:solidFill>
                <a:latin typeface="Calibri"/>
              </a:rPr>
              <a:t>EDIT MapViewer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dit.csic.es/geo/mapviewer/edit.html</a:t>
            </a:r>
            <a:endParaRPr b="0" lang="es-ES_tradnl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DIT Geospatial Components</a:t>
            </a: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  <Words>683</Words>
  <Paragraphs>61</Paragraphs>
  <Company>Museo nacional ciencias natural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21:31:04Z</dcterms:created>
  <dc:creator>Usuario de Office 2004 Test Drive</dc:creator>
  <dc:description/>
  <dc:language>en-US</dc:language>
  <cp:lastModifiedBy>Usuario de Office 2004 Test Drive</cp:lastModifiedBy>
  <dcterms:modified xsi:type="dcterms:W3CDTF">2010-09-02T21:32:34Z</dcterms:modified>
  <cp:revision>22</cp:revision>
  <dc:subject/>
  <dc:title>EDIT Geographic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8</vt:r8>
  </property>
</Properties>
</file>